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CFE5-2C41-4F79-9C8C-AC176EA62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67AC-E2E3-40F1-B1E8-EB5088DE6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838B-5D20-473A-AE32-B386EB200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422C-B791-4C9C-A21B-D19B6F775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DC8FD-0820-47C2-AAC8-25BC2D4C8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143F3-8544-4CCA-B8A6-7EB331956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83EBE-F28F-469C-AFE6-D94C743C5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74D00-C05B-40BF-A096-3914C35F2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B92FD-43C5-408B-AB15-DFAE57B3B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F9AAB-BDCE-4ED6-B920-33FCE8E33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27923-57AD-42E1-906F-A4028C24B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CF6C-3090-4441-9127-E2EC8AF80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3CBAF-AE11-4013-8435-9AAA1B925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2606F-5176-4C5C-8404-31DFC4C68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E91EF-4B6C-43DA-BD47-538717119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D7C5F-91E9-460C-B043-A5307FFDA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2D7EF-8AC3-4404-9623-2A3FDF737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84F6-F0B2-4964-89F5-98D8AD61B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5952-DD9E-4151-A0AF-DB76E9774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0CD8-7665-4472-9BB2-4C3671E18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8E7E-181C-4C59-94B7-823763427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424D-050A-490A-B3DC-378233159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760B-FEC5-403E-B4E6-46B6A9BFC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D01B-D7B9-445D-BDED-391813F04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96DF5-AB61-4568-8997-5DA8FF0659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25B96-30E3-45AB-9A15-A0EB9CC240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1280"/>
            <a:ext cx="6400800" cy="1773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4-2 </a:t>
            </a:r>
            <a:r>
              <a:rPr b="0" lang="zh-CN" sz="4400" spc="-1" strike="noStrike">
                <a:solidFill>
                  <a:srgbClr val="ff0000"/>
                </a:solidFill>
                <a:latin typeface="굴림"/>
              </a:rPr>
              <a:t>일상생활과 일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115640" y="3886200"/>
            <a:ext cx="7056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상생활에서 ‘일’이 갖는 의미는 무엇일까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’은 자본주의 사회의 경제활동과 어떤 차이가 있을까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실천적 관심의 세계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는 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‘실천적 관심’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에 의해서 지배되는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에서 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‘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일’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은 특별한 의미를 갖는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이란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69608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어떤 기획에 기초한 외부 세계에서의 행위로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체적인 운동을 통하여 기획된 사태를 일으키려는 의도를 특징으로 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&gt;(Schutz, 1973: 212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단순한 생각의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숨겨진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행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vs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신체적인 운동을 요구하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드러난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행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vs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제활동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/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임금노동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재생산 노동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소비활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5528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아는 일 속에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을 통하여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자신의 현재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과거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미래를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특정한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간 차원으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통합한다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말하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글쓰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신체노동하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책 읽기 등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신체운동을 통해 내적인 시간에서 외적 시간으로 전환이 이루어진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외적인 공간과 시간 속에서 발생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일하는 자아만이 자신을 주체로서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그리고 현재형으로 경험하며 하나의 통일체로 실현한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행위를 통해 타인과 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소통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한다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소통은 사회적인 ‘일’을 수행하는 행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소통은 사유의 기호인 ‘표현적인 장’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행위를 통해 일상세계의 서로 다른 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공간적인 전망을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 조직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내 신체의 지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여기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공간 좌표의 중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&lt;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현재적인 도달거리 내의 세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자아의 온전한 흐름을 통해 일상에서 실천적으로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합한 부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을 발견하고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이것이 우리의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사유흐름의 형식과 내용을 결정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7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인간학적인 일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자본주의 사회의 경제활동으로 환원되지 않는 “일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객관주의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에 대한 비판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1T01:23:53Z</dcterms:created>
  <dc:creator>Staff</dc:creator>
  <dc:description/>
  <dc:language>en-US</dc:language>
  <cp:lastModifiedBy>Staff</cp:lastModifiedBy>
  <dcterms:modified xsi:type="dcterms:W3CDTF">2009-03-23T05:54:27Z</dcterms:modified>
  <cp:revision>6</cp:revision>
  <dc:subject/>
  <dc:title>4-2 일상생활과 일</dc:title>
</cp:coreProperties>
</file>